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AEA-B521-420B-8796-BDBCCFAC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686-DF9E-4BAA-A2CA-8DB81FB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2B9-2731-4DD1-8040-07816C19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49A-114B-4968-9C74-DA987602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5917-3EDB-4017-9B0E-545F6A16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8E94-091B-48B6-9390-5C745B4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ADFE-ABE2-4F8F-86FF-4C8980D1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671A-7AB4-4FBE-A016-0D3BB36A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4352-0750-42C5-8857-AD71A6A9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CD58-7FC8-4758-BDAB-E4EAB426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F937-F346-467D-910B-6BBC54A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017-20DF-4B2A-B324-835B847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276D-CE38-4A5F-BF2E-8CF8D49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27B3-61EB-4CD9-9F9B-2CE7C83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BF12-77B1-47E7-8F93-394A5220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6EB5-43F0-438A-A6F1-CD355B0E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A9C9-6C22-47BC-AABA-5C1F46FD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17F-A30E-47EA-B6D5-073E37E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85D-9251-414E-AE09-0050FBBD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638-1102-4E20-B7DD-7B22F397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16C-0B13-4838-85C0-BB5C25BC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3AA-FC24-49D9-B1B6-BD18A29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077-8F6C-4CEA-A0B9-6C5B7B3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62E-C0A1-425B-BD12-6CB20C13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6BFF-161A-46C4-8CD4-8E39FC9228A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9DCF-4F4C-4CFC-923A-063D9E5BA3E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4425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 18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ncemos 3 – Lección Prelimi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292929"/>
                </a:solidFill>
                <a:latin typeface="Arial"/>
              </a:rPr>
              <a:t>Reflexive Verbs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n English, we really don’t identify with reflexive verbs. So these will seem strange to you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n English, a sentence using a “so called” reflexive verb might be…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Lauren brushes her hair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Scott bathes himself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ou must remember that these are actions being done </a:t>
            </a:r>
            <a:r>
              <a:rPr b="1" lang="en-US" sz="4800" spc="-1" strike="noStrike">
                <a:solidFill>
                  <a:srgbClr val="292929"/>
                </a:solidFill>
                <a:latin typeface="Arial"/>
              </a:rPr>
              <a:t>to oneself, by oneself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. For example: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 wash my (my own) hair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01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m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yself)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e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yourself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(to or for himself,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rself, itself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ourselve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(to or for you al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themselves,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 all, or eac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ther)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447920"/>
            <a:ext cx="0" cy="4952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WASH ONE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I wash myself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ou wash yourself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He, She, It washes himself, etc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We wash ourselv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hey wash themselv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V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m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o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s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s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nos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mos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os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áis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s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n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hey can either go </a:t>
            </a:r>
            <a:r>
              <a:rPr b="1" lang="en-US" sz="4400" spc="-1" strike="noStrike">
                <a:solidFill>
                  <a:srgbClr val="999933"/>
                </a:solidFill>
                <a:latin typeface="Arial"/>
              </a:rPr>
              <a:t>before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a conjugated verb or </a:t>
            </a:r>
            <a:r>
              <a:rPr b="1" lang="en-US" sz="4400" spc="-1" strike="noStrike">
                <a:solidFill>
                  <a:srgbClr val="999933"/>
                </a:solidFill>
                <a:latin typeface="Arial"/>
              </a:rPr>
              <a:t>attached 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o an infinitive.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Before the verb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Arial"/>
              </a:rPr>
              <a:t>M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voy a lavar el pelo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fter the infinitiv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oy a lavar</a:t>
            </a:r>
            <a:r>
              <a:rPr b="1" lang="en-US" sz="4000" spc="-1" strike="noStrike">
                <a:solidFill>
                  <a:srgbClr val="999933"/>
                </a:solidFill>
                <a:latin typeface="Arial"/>
              </a:rPr>
              <a:t>m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el pelo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Let’s do more verbs!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4952880" cy="0"/>
          </a:xfrm>
          <a:prstGeom prst="line">
            <a:avLst/>
          </a:prstGeom>
          <a:ln w="7632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PILL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m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os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mo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os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ái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99000" y="1417680"/>
            <a:ext cx="640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Do you remember your</a:t>
            </a:r>
            <a:endParaRPr b="0" lang="en-US" sz="4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ndirect Object </a:t>
            </a:r>
            <a:endParaRPr b="0" lang="en-US" sz="4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Pronouns?</a:t>
            </a:r>
            <a:endParaRPr b="0" lang="en-US" sz="4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648320"/>
            <a:ext cx="4800600" cy="0"/>
          </a:xfrm>
          <a:prstGeom prst="line">
            <a:avLst/>
          </a:prstGeom>
          <a:ln w="7632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UCH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m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os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mo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os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ái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When using reflexive verbs to talk about parts of the body, use the definite article.  (the el, la, los, las that mean “the”)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Nos lavamos</a:t>
            </a:r>
            <a:r>
              <a:rPr b="1" lang="en-US" sz="4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9933"/>
                </a:solidFill>
                <a:latin typeface="Arial"/>
              </a:rPr>
              <a:t>el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 pelo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¿Te cepillas </a:t>
            </a:r>
            <a:r>
              <a:rPr b="1" lang="en-US" sz="4800" spc="-1" strike="noStrike">
                <a:solidFill>
                  <a:srgbClr val="999933"/>
                </a:solidFill>
                <a:latin typeface="Arial"/>
              </a:rPr>
              <a:t>los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 dientes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Object Pronou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me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me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te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you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him,    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her, it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55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nos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  (to or for us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les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them, 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you all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ment of Indirect Object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Indirect Object Pronouns, me, te, le, nos, and les are placed either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before a conjugated verb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attached to the end of an infinitive.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373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fore the verb or after the infinitiv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Before the verb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¿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vas a dar el libro a Elena?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í, 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le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oy a dar el libro a Elena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fter the infinitiv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¿Vas a dar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el libro a Elena?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í, voy a dar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el libro a Elena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320" y="380880"/>
            <a:ext cx="761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oday we are learning about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reflexive verbs and they have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pronouns much like Indirect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Object Pronouns and are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used much in the same way.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Make sure you have your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Indirect Object Pronouns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memorized.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Reflexive verbs are used to tell that a person does something to or for him- or herself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Reflexive verbs have two parts:  </a:t>
            </a:r>
            <a:br>
              <a:rPr sz="4800"/>
            </a:b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1.  a reflexive pronoun 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(me, te, se, nos, se) </a:t>
            </a:r>
            <a:br>
              <a:rPr sz="4800"/>
            </a:b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2.  and a verb form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LAVAR</a:t>
            </a:r>
            <a:r>
              <a:rPr b="1" lang="en-US" sz="4800" spc="-1" strike="noStrike">
                <a:solidFill>
                  <a:srgbClr val="292929"/>
                </a:solidFill>
                <a:latin typeface="Arial"/>
              </a:rPr>
              <a:t>SE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(to wash oneself)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092600">
            <a:off x="1865160" y="2318760"/>
            <a:ext cx="1219320" cy="1752480"/>
          </a:xfrm>
          <a:custGeom>
            <a:avLst/>
            <a:gdLst>
              <a:gd name="textAreaLeft" fmla="*/ 779040 w 1219320"/>
              <a:gd name="textAreaRight" fmla="*/ 1219680 w 1219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3920" y="3803760"/>
            <a:ext cx="136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erb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Form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70200">
            <a:off x="3157200" y="2862000"/>
            <a:ext cx="1295280" cy="752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19440 h 752400"/>
              <a:gd name="textAreaBottom" fmla="*/ 732960 h 75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38"/>
                </a:lnTo>
                <a:cubicBezTo>
                  <a:pt x="10800" y="9338"/>
                  <a:pt x="5400" y="10238"/>
                  <a:pt x="0" y="10238"/>
                </a:cubicBezTo>
                <a:cubicBezTo>
                  <a:pt x="5400" y="10238"/>
                  <a:pt x="10800" y="11138"/>
                  <a:pt x="10800" y="120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8880" y="3809880"/>
            <a:ext cx="22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Reflexive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ronoun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7:22Z</dcterms:created>
  <dc:creator>Tom Shirley</dc:creator>
  <dc:description/>
  <dc:language>en-US</dc:language>
  <cp:lastModifiedBy>Local User</cp:lastModifiedBy>
  <cp:lastPrinted>2009-04-22T19:24:48Z</cp:lastPrinted>
  <dcterms:modified xsi:type="dcterms:W3CDTF">2009-08-17T20:39:21Z</dcterms:modified>
  <cp:revision>13</cp:revision>
  <dc:subject/>
  <dc:title>PowerPoint Presentation</dc:title>
</cp:coreProperties>
</file>